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3.jpeg" ContentType="image/jpeg"/>
  <Override PartName="/ppt/media/laser.wav" ContentType="audio/x-wav"/>
  <Override PartName="/ppt/media/image16.jpeg" ContentType="image/jpeg"/>
  <Override PartName="/ppt/media/image39.gif" ContentType="image/gif"/>
  <Override PartName="/ppt/media/bomb.wav" ContentType="audio/x-wav"/>
  <Override PartName="/ppt/media/image23.jpeg" ContentType="image/jpeg"/>
  <Override PartName="/ppt/media/image2.jpeg" ContentType="image/jpeg"/>
  <Override PartName="/ppt/media/image3.gif" ContentType="image/gif"/>
  <Override PartName="/ppt/media/image33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42.gif" ContentType="image/gif"/>
  <Override PartName="/ppt/media/applause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24.jpeg" ContentType="image/jpeg"/>
  <Override PartName="/ppt/media/image35.gif" ContentType="image/gif"/>
  <Override PartName="/ppt/media/image11.jpeg" ContentType="image/jpeg"/>
  <Override PartName="/ppt/media/image31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43.gif" ContentType="image/gif"/>
  <Override PartName="/ppt/media/image9.jpeg" ContentType="image/jpeg"/>
  <Override PartName="/ppt/media/coin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image34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9CE-C9FA-44D4-AAFE-08C035DB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E20-AE54-4BE8-9612-1DAB1AC6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78B-9357-497D-A35B-7B274904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266-784D-4F5F-B2D1-D97EE677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866-196E-47A7-9FBE-8DEF5B0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14B-F669-4171-B061-1ACDA14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CE7-CF38-488D-86F9-9DC0F382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B8E-D233-4C46-90B8-266EACCE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136-79C7-44F7-8402-2EA32912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720-5EE1-4F2C-B535-A417A256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95F-FF4D-4EA0-B691-F1A8A58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AD7-643E-4AF0-96FA-B899EF3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7417-34FC-48F5-9070-CCA460D00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3.gif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12&amp;tbnid=bIwP5AQui9btkM:&amp;tbnh=127&amp;tbnw=84&amp;prev=/images%3Fq%3Dholes%2Bthe%2Bmovie%26gbv%3D2%26hl%3Den%26safe%3Dactive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splicedwire.com/03reviews/holes.jpg&amp;imgrefurl=http://splicedwire.com/03reviews/holes.html&amp;usg=__nRB3mbMifYT1kOWM3I_Se2Vawhw=&amp;h=221&amp;w=250&amp;sz=19&amp;hl=en&amp;start=20&amp;tbnid=F3J2NOsPE3KYOM:&amp;tbnh=98&amp;tbnw=111&amp;prev=/images%3Fq%3Dholes%2Bmovie%26gbv%3D2%26hl%3Den%26safe%3Dactive%26sa%3D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nz/imgres?imgurl=http://images.contactmusic.com/images/reviews2/holes.jpg&amp;imgrefurl=http://www.contactmusic.com/new/film.nsf/reviews/holes&amp;usg=__EuEhYjv10C38ycpKov62ErG-R90=&amp;h=167&amp;w=250&amp;sz=21&amp;hl=en&amp;start=19&amp;tbnid=rXrSMsi7aMHeMM:&amp;tbnh=74&amp;tbnw=111&amp;prev=/images%3Fq%3Dholes%2Bmovie%26gbv%3D2%26hl%3Den%26safe%3Dactive%26sa%3D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nz/imgres?imgurl=http://images.countingdown.com/images/features/3030657/holefeat.jpg&amp;imgrefurl=http://www.countingdown.com/features%3Ffeature_id%3D3030657&amp;usg=__wNCYfYGlbRNSF1mLtyC4QoCy7pk=&amp;h=200&amp;w=400&amp;sz=16&amp;hl=en&amp;start=18&amp;tbnid=9ClvP_elQjIvgM:&amp;tbnh=62&amp;tbnw=124&amp;prev=/images%3Fq%3Dholes%2Bmovie%26gbv%3D2%26hl%3Den%26safe%3Dactive%26sa%3D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.nz/imgres?imgurl=http://i.imdb.com/Photos/Ss/0311289/holes_poster.jpg&amp;imgrefurl=http://jelly023.blogspot.com/2007/07/call-out-to-movie-buffs.html&amp;usg=__SXB0uCoGA4Q07PR2VYxsFH-u6CE=&amp;h=550&amp;w=372&amp;sz=74&amp;hl=en&amp;start=16&amp;tbnid=5IA44POwbNpCCM:&amp;tbnh=133&amp;tbnw=90&amp;prev=/images%3Fq%3Dholes%2Bmovie%26gbv%3D2%26hl%3Den%26safe%3Dactive%26sa%3DG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.nz/imgres?imgurl=http://ksr2979.k12.sd.us/holes.jpg&amp;imgrefurl=http://ksr2979.k12.sd.us/book_projects.htm&amp;usg=__l2IFj7-QoysJszTxG1dDVnQriDc=&amp;h=475&amp;w=334&amp;sz=53&amp;hl=en&amp;start=13&amp;tbnid=6EU3VeFqjZ2y5M:&amp;tbnh=129&amp;tbnw=91&amp;prev=/images%3Fq%3Dholes%2Bmovie%26gbv%3D2%26hl%3Den%26safe%3Dactive%26sa%3DG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s.google.co.nz/imgres?imgurl=http://images.contactmusic.com/images/reviews/holes.jpg&amp;imgrefurl=http://www.contactmusic.com/new/film.nsf/reviews/holes_1&amp;usg=__IFGmnXyyxiNGwq8IbnyvG3SNDc0=&amp;h=221&amp;w=250&amp;sz=13&amp;hl=en&amp;start=9&amp;tbnid=TxaRXY6iozXy3M:&amp;tbnh=98&amp;tbnw=111&amp;prev=/images%3Fq%3Dholes%2Bmovie%26gbv%3D2%26hl%3Den%26safe%3Dactive%26sa%3DG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4&amp;tbnid=bIwP5AQui9btkM:&amp;tbnh=127&amp;tbnw=84&amp;prev=/images%3Fq%3Dholes%2Bmovie%26gbv%3D2%26hl%3Den%26safe%3Dactive%26sa%3D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.nz/imgres?imgurl=http://www.massillonlibrary.org/av/movie_reviews/images/holes.jpg&amp;imgrefurl=http://www.massillonlibrary.org/av/movie_reviews/review9.htm&amp;usg=__vTbwVLB8q9sWRApOVcFvez9Qotw=&amp;h=475&amp;w=327&amp;sz=50&amp;hl=en&amp;start=2&amp;tbnid=RUEBWFoHAT0eIM:&amp;tbnh=129&amp;tbnw=89&amp;prev=/images%3Fq%3Dholes%2Bmovie%26gbv%3D2%26hl%3Den%26safe%3Dactive%26sa%3DG" TargetMode="External"/><Relationship Id="rId17" Type="http://schemas.openxmlformats.org/officeDocument/2006/relationships/image" Target="../media/image20.jpeg"/><Relationship Id="rId18" Type="http://schemas.openxmlformats.org/officeDocument/2006/relationships/hyperlink" Target="http://images.google.co.nz/imgres?imgurl=http://ettc.lrhsd.org/archives/Pictures/holes.jpg&amp;imgrefurl=http://ettc.lrhsd.org/archives/holes.htm&amp;usg=__kE80dgYrTD5O2Yc_4EB334YqQ2s=&amp;h=475&amp;w=304&amp;sz=179&amp;hl=en&amp;start=11&amp;tbnid=IpeFdfxovyPlqM:&amp;tbnh=129&amp;tbnw=83&amp;prev=/images%3Fq%3Dholes%2Bmovie%26gbv%3D2%26hl%3Den%26safe%3Dactive%26sa%3DG" TargetMode="External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hyperlink" Target="http://images.google.co.nz/imgres?imgurl=http://teacher.scholastic.com/scholasticnews/indepth/holes/images/movie1.jpg&amp;imgrefurl=http://teacher.scholastic.com/scholasticnews/indepth/holes/movie.htm&amp;usg=__EYNd5Or3V7rEugDtCODMUpL1SQU=&amp;h=195&amp;w=250&amp;sz=52&amp;hl=en&amp;start=15&amp;tbnid=DsrEeLj82m2pIM:&amp;tbnh=87&amp;tbnw=111&amp;prev=/images%3Fq%3Dholes%2Bmovie%26gbv%3D2%26hl%3Den%26safe%3Dactive%26sa%3DG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2.jpeg"/><Relationship Id="rId24" Type="http://schemas.openxmlformats.org/officeDocument/2006/relationships/hyperlink" Target="http://images.google.co.nz/imgres?imgurl=http://www.tribute.ca/tribute_objects/images/movies/holes/holes5.jpg&amp;imgrefurl=http://www.tribute.ca/galleries/Holes/6248&amp;usg=__vXD80-Rn5UmLH3yBSowmdQWpe5g=&amp;h=302&amp;w=400&amp;sz=32&amp;hl=en&amp;start=6&amp;tbnid=6mifriyBUQUJQM:&amp;tbnh=94&amp;tbnw=124&amp;prev=/images%3Fq%3Dholes%2Bmovie%26gbv%3D2%26hl%3Den%26safe%3Dactive%26sa%3DG" TargetMode="External"/><Relationship Id="rId25" Type="http://schemas.openxmlformats.org/officeDocument/2006/relationships/image" Target="../media/image24.jpeg"/><Relationship Id="rId26" Type="http://schemas.openxmlformats.org/officeDocument/2006/relationships/hyperlink" Target="http://images.google.co.nz/imgres?imgurl=http://www.ew.com/r0/ew/AllAboutGalleryPopupView/in%3Fhttp://i.timeinc.net/ew/dynamic/imgs/030415/113827__holes_l.jpg&amp;imgrefurl=http://www.freewebs.com/worldofshia/quizzes.htm&amp;usg=__s5-YgjfX0T6M8PkW7fzx-J2a9Qg=&amp;h=270&amp;w=270&amp;sz=20&amp;hl=en&amp;start=24&amp;tbnid=Y9bJ0W291_YRTM:&amp;tbnh=113&amp;tbnw=113&amp;prev=/images%3Fq%3Dholes%2Bmovie%26gbv%3D2%26ndsp%3D20%26hl%3Den%26safe%3Dactive%26sa%3DN%26start%3D20" TargetMode="External"/><Relationship Id="rId27" Type="http://schemas.openxmlformats.org/officeDocument/2006/relationships/image" Target="../media/image25.jpeg"/><Relationship Id="rId28" Type="http://schemas.openxmlformats.org/officeDocument/2006/relationships/hyperlink" Target="http://images.google.co.nz/imgres?imgurl=http://www.romanticmovies.about.com/library/graphics/holespubf.jpg&amp;imgrefurl=http://answers.google.com/answers/threadview%3Fid%3D191010&amp;usg=__oivcNFlpZcPSlS5mjvvtsZzxnBg=&amp;h=266&amp;w=400&amp;sz=35&amp;hl=en&amp;start=40&amp;tbnid=bU0N7RnTjRT1ZM:&amp;tbnh=82&amp;tbnw=124&amp;prev=/images%3Fq%3Dholes%2Bmovie%26gbv%3D2%26ndsp%3D20%26hl%3Den%26safe%3Dactive%26sa%3DN%26start%3D20" TargetMode="External"/><Relationship Id="rId29" Type="http://schemas.openxmlformats.org/officeDocument/2006/relationships/image" Target="../media/image26.jpeg"/><Relationship Id="rId30" Type="http://schemas.openxmlformats.org/officeDocument/2006/relationships/hyperlink" Target="http://images.google.co.nz/imgres?imgurl=http://teacher.scholastic.com/scholasticnews/indepth/holes/images/movie2.jpg&amp;imgrefurl=http://teacher.scholastic.com/scholasticnews/indepth/holes/movie.htm&amp;usg=__eEdGgvDRlEP0poWQ5Dk67Txu_ns=&amp;h=172&amp;w=250&amp;sz=68&amp;hl=en&amp;start=36&amp;tbnid=TOZjv3WfhdXeEM:&amp;tbnh=76&amp;tbnw=111&amp;prev=/images%3Fq%3Dholes%2Bmovie%26gbv%3D2%26ndsp%3D20%26hl%3Den%26safe%3Dactive%26sa%3DN%26start%3D20" TargetMode="External"/><Relationship Id="rId31" Type="http://schemas.openxmlformats.org/officeDocument/2006/relationships/image" Target="../media/image27.jpeg"/><Relationship Id="rId32" Type="http://schemas.openxmlformats.org/officeDocument/2006/relationships/hyperlink" Target="http://images.google.co.nz/imgres?imgurl=http://cover6.cduniverse.com/MuzeAudioArt/Large/27/479427.jpg&amp;imgrefurl=http://www.zimbio.com/Trace%2BAdkins%2BMusic/articles/17/Listen%2BHoles%2Bmovie%2BSoundtracks%2Bonline%2Bget&amp;usg=__Lf9zTWDuYB56T6VUCp3i2xX7UR4=&amp;h=450&amp;w=450&amp;sz=37&amp;hl=en&amp;start=26&amp;tbnid=ns_tF0jNijewIM:&amp;tbnh=127&amp;tbnw=127&amp;prev=/images%3Fq%3Dholes%2Bmovie%26gbv%3D2%26ndsp%3D20%26hl%3Den%26safe%3Dactive%26sa%3DN%26start%3D20" TargetMode="External"/><Relationship Id="rId33" Type="http://schemas.openxmlformats.org/officeDocument/2006/relationships/image" Target="../media/image28.jpeg"/><Relationship Id="rId34" Type="http://schemas.openxmlformats.org/officeDocument/2006/relationships/hyperlink" Target="http://images.google.co.nz/imgres?imgurl=http://www.rfadventures.com/images/Animals/Reptiles/lizards/bearded-dragon-bg-1.jpg&amp;imgrefurl=http://www.rfadventures.com/Bearded%2520Dragon.htm&amp;usg=__T4A3jm6rlNHGC-VbOwE75J91kqk=&amp;h=491&amp;w=644&amp;sz=47&amp;hl=en&amp;start=29&amp;tbnid=0lSThQGf_8S-iM:&amp;tbnh=104&amp;tbnw=137&amp;prev=/images%3Fq%3Dholes%2Bmovie%26gbv%3D2%26ndsp%3D20%26hl%3Den%26safe%3Dactive%26sa%3DN%26start%3D20" TargetMode="External"/><Relationship Id="rId35" Type="http://schemas.openxmlformats.org/officeDocument/2006/relationships/image" Target="../media/image29.jpeg"/><Relationship Id="rId36" Type="http://schemas.openxmlformats.org/officeDocument/2006/relationships/hyperlink" Target="http://images.google.co.nz/imgres?imgurl=http://imcdb.org/images/006/487.jpg&amp;imgrefurl=http://imcdb.org/vehicle_6487-Chrysler-Saratoga-1958.html&amp;usg=__BPrn4t464MEOkJsL3-UvZf_03No=&amp;h=336&amp;w=640&amp;sz=28&amp;hl=en&amp;start=53&amp;tbnid=kpHmFnoo39DQfM:&amp;tbnh=72&amp;tbnw=137&amp;prev=/images%3Fq%3Dholes%2Bmovie%26gbv%3D2%26ndsp%3D20%26hl%3Den%26safe%3Dactive%26sa%3DN%26start%3D40" TargetMode="External"/><Relationship Id="rId37" Type="http://schemas.openxmlformats.org/officeDocument/2006/relationships/image" Target="../media/image30.jpeg"/><Relationship Id="rId38" Type="http://schemas.openxmlformats.org/officeDocument/2006/relationships/image" Target="../media/image31.jpeg"/><Relationship Id="rId39" Type="http://schemas.openxmlformats.org/officeDocument/2006/relationships/hyperlink" Target="http://images.google.co.nz/imgres?imgurl=http://images.zap2it.com/movies//31976/31976_ba.jpg&amp;imgrefurl=http://movies.zap2it.com/movies/holes/31465&amp;usg=__GRbyF28-ZnpWQKXGw8UfQ23dWIM=&amp;h=432&amp;w=288&amp;sz=111&amp;hl=en&amp;start=58&amp;tbnid=d-3FDMq8CPdxqM:&amp;tbnh=126&amp;tbnw=84&amp;prev=/images%3Fq%3Dholes%2Bmovie%26gbv%3D2%26ndsp%3D20%26hl%3Den%26safe%3Dactive%26sa%3DN%26start%3D40" TargetMode="External"/><Relationship Id="rId40" Type="http://schemas.openxmlformats.org/officeDocument/2006/relationships/image" Target="../media/image32.jpe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424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lba Matter"/>
              </a:rPr>
              <a:t>Holes story board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993080" y="558972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Pendansk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2359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eleton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73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189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ard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0680" y="44146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1339920"/>
            <a:ext cx="2156040" cy="21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0680" y="1413000"/>
            <a:ext cx="24433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08000" y="1079640"/>
            <a:ext cx="5778720" cy="57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n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6028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90340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lightning"/>
          <p:cNvPicPr/>
          <p:nvPr/>
        </p:nvPicPr>
        <p:blipFill>
          <a:blip r:embed="rId6"/>
          <a:stretch/>
        </p:blipFill>
        <p:spPr>
          <a:xfrm rot="1615200">
            <a:off x="457164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835280" y="5057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63528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195640" y="357336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64328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nimated lightning"/>
          <p:cNvPicPr/>
          <p:nvPr/>
        </p:nvPicPr>
        <p:blipFill>
          <a:blip r:embed="rId14"/>
          <a:stretch/>
        </p:blipFill>
        <p:spPr>
          <a:xfrm rot="1615200">
            <a:off x="3203280" y="184464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nimated lightning"/>
          <p:cNvPicPr/>
          <p:nvPr/>
        </p:nvPicPr>
        <p:blipFill>
          <a:blip r:embed="rId15"/>
          <a:stretch/>
        </p:blipFill>
        <p:spPr>
          <a:xfrm rot="1615200">
            <a:off x="1692000" y="191628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nimated lightning"/>
          <p:cNvPicPr/>
          <p:nvPr/>
        </p:nvPicPr>
        <p:blipFill>
          <a:blip r:embed="rId16"/>
          <a:stretch/>
        </p:blipFill>
        <p:spPr>
          <a:xfrm rot="1615200">
            <a:off x="394920" y="1916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1628640"/>
            <a:ext cx="84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d on a true sto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edge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!!!!!!!!!!!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wheel spokes="8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13372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ley and Zero forge a friendship while at Camp Green Lake.  It, in fact, is what saves the boys in the end.  Katherine and Sam have a powerful friendship that actually destroys them.  Zero has no relationship with his mother, and this has a great deal of influence on the kind of life he has led, and the kind of boy he becom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89000"/>
            <a:ext cx="86421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"/>
              </a:rPr>
              <a:t>friendship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180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4554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73272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vert"/>
    <p:sndAc>
      <p:stSnd>
        <p:snd r:embed="rId8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944720"/>
            <a:ext cx="5184720" cy="491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0"/>
            <a:ext cx="71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Deadly Yellow Lizard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2133720"/>
            <a:ext cx="3672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Arial Black"/>
              </a:rPr>
              <a:t>WA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YELLOW SPOTTED LIZARDS. IF SEEN  REPORT TO MR SIR. IF CONTACTED BY LIZARDS ,YOU WILL DIE A SLOW AND PAINFUL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IF GOING ON A MAN HUNT FOR THIS LIZARD COME BY THE OLD ONION STORE AND SEE SAM THE ONION MAN FOR A BOTTEL OF ONION JUCIE THAT PREVENTS THE 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70828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5997600"/>
            <a:ext cx="1290600" cy="86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r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534520" y="429264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4520" y="429264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, Zero, Armpit, Zig Zag, X-Ray, Squid and Mag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4103640" cy="26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92280"/>
            <a:ext cx="7921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Meet the Ga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767720" y="3645000"/>
            <a:ext cx="1376280" cy="151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u"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997360"/>
            <a:ext cx="282240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1125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is aint a girl scout c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0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r. Sir Warden Mr. Penda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93080" y="46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620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 and Zero develop a friendship that can not be broken. When Caveman and Zero run away they find hope on top of Big Thumb Mou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587600"/>
            <a:ext cx="219564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5" name="whoosh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39920" y="167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64160"/>
            <a:ext cx="2484360" cy="219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493704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967280"/>
            <a:ext cx="378000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99400" y="2997360"/>
            <a:ext cx="1344600" cy="198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0400" y="2997360"/>
            <a:ext cx="1374840" cy="1947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284720" y="3052800"/>
            <a:ext cx="2136600" cy="188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059280" y="3141720"/>
            <a:ext cx="122868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98560" y="3141720"/>
            <a:ext cx="1244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8800" y="3141720"/>
            <a:ext cx="1160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rcRect l="13129" t="43033" r="36022" b="26508"/>
          <a:stretch/>
        </p:blipFill>
        <p:spPr>
          <a:xfrm>
            <a:off x="0" y="3141720"/>
            <a:ext cx="6476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773360"/>
            <a:ext cx="1258920" cy="14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rcRect l="13129" t="43033" r="36022" b="26508"/>
          <a:stretch/>
        </p:blipFill>
        <p:spPr>
          <a:xfrm>
            <a:off x="1258920" y="1628640"/>
            <a:ext cx="1081080" cy="151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340000" y="1898640"/>
            <a:ext cx="158436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924360" y="18414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19640" y="2009880"/>
            <a:ext cx="158436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-22320"/>
            <a:ext cx="26272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340000" y="-428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140360" y="20520"/>
            <a:ext cx="2663640" cy="202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732720" y="0"/>
            <a:ext cx="241128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8"/>
          <a:stretch/>
        </p:blipFill>
        <p:spPr>
          <a:xfrm>
            <a:off x="6983280" y="1413000"/>
            <a:ext cx="216072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372360" y="1341360"/>
            <a:ext cx="1135080" cy="170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8900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 clip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is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6000" y="1882800"/>
            <a:ext cx="8820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868320"/>
            <a:ext cx="6443640" cy="598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60280"/>
            <a:ext cx="91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Si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57:36Z</dcterms:created>
  <dc:creator>room 1</dc:creator>
  <dc:description/>
  <dc:language>en-US</dc:language>
  <cp:lastModifiedBy>room 1</cp:lastModifiedBy>
  <dcterms:modified xsi:type="dcterms:W3CDTF">2009-04-02T22:50:28Z</dcterms:modified>
  <cp:revision>9</cp:revision>
  <dc:subject/>
  <dc:title>Slide 1</dc:title>
</cp:coreProperties>
</file>